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F95-406E-438E-B71C-6C1C15EA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211-95EA-4501-BCE7-DA1108F6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A84BE-64B6-4EDA-B20D-07BAAAF1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944F3-E863-4B2D-AF75-32B35D8A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D248D-ABFC-4EFD-B321-48EB7F02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E4C5B-2DFF-47E0-A2B3-2A15488E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7A50D-F3A3-4951-8492-476CD50C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77B14-EE48-4A2F-8C7E-BD2A0F3B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5C01C-9F54-4633-988C-5805FD29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1FA90-7862-4079-A994-ABF35DE2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D83E2-0B70-4E94-AED8-58CE1B6F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F5495-4FB8-4CB4-99C9-01F35204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B97-C458-4353-9358-B7493278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CB850-F1F3-4F1D-908E-EA7BA230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CC32A-19D2-4306-BF4B-421CE83E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1AB81-4F5C-44EC-9121-600A541B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B2B9C-C107-45D5-B043-0924C877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B8176-C339-4DE1-ABCD-21A982DB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95C19-C540-404E-96B2-CFBBED16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A2B9E-3485-4EF6-9D45-34BBF0BC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43A43-2AE7-4014-9D78-F30CE074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D179B-DA0D-4931-9C79-5807ED3C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604AC-EA90-4F92-BAB6-D62BED47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A66-8FDF-42C8-A915-52B3FAAB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819EE-A77B-4362-BA0B-A8163A35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AFE5-108C-45CE-9E29-5AA537C3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94F7-2407-4496-A72D-FDC8A7D6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3CE1-B352-4A80-A3AD-60554555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81F9-C23C-4E24-83BE-85361127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A232-C6B4-4BEA-80C7-A3DF3B31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13C3-ACFF-4E00-A23E-B72F016F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2652-2494-4677-AB45-8C91D336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B7F-88F4-4E54-B5A5-BA6E57B8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BCC8-8AE6-44B4-B348-E317CDE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2122-BEC5-4895-A0ED-1C0E78E9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85A8-8824-48FD-A142-4CB4332A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6057-803A-4318-A136-CDD95140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580D-7482-4A6A-9C56-A8F77562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AB3A0-4758-4BF6-8226-A2F43BAA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3794F-B681-4E91-9295-287B7557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3F1EB-F603-4855-A9D2-08330D4C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BA15-9549-427E-9971-F3C5DA19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E8F2-EAF8-4C92-9340-4BCA040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F8F-1E74-4337-8654-89053C06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57234-DC2B-4B90-AEB0-C4C27558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D184-B8EB-4B0B-B14E-FC38C5F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1789-739F-41DC-A42C-96E35938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9961-7D02-43B5-B6ED-B113859D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3F54-5081-4E04-8C6E-063A881C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F274-2E5C-4F7C-A324-45CF2A00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9C70-1AF5-4E5B-A977-BE6B8543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F812-D300-4BA3-88C2-E5E300BA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A7851-3577-43B4-ABB8-74CE5B8B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E2F1D-8CA2-48EB-BD7F-E517E310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3A8-5A96-4EA1-9009-90DC0155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BFB8B-B7CF-4FC1-A7C1-28D935C9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5CDA-6C28-4948-990F-51DBA2E9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3F4B9-A23B-4821-9BE6-7D4532BE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717B2-4B14-4830-9099-888E2DE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FD73-E159-497B-B202-8E5554FD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6C8B-B3A8-4808-B4E7-D9125D62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53F2-C86A-42B6-8B5E-08419957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5F738-8108-4F82-8F55-BE5A4BBD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24C3C-BFFF-4690-860E-11A70989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AC606-77B1-4007-92DB-BB264CB5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E54-A143-4A1B-B42B-641F04C5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D04D-E6D7-41FF-BB8D-7FD54BC1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FD51D-B9F4-4B18-9F87-F42E6D1C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3F503-D940-4F21-BF32-D33C61EB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F3436-CE11-43D2-BA58-403672B1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B782A-D655-4E17-9F65-4FEE717B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1795-06CA-4F03-8EB9-05FD5282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652C5-0240-476E-8547-C3EE1A8B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BFAEE-5C02-4CBC-9CD7-EEBCBF30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AC68-2CD7-4234-B889-74DFFC1C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83561-D4A3-4CAE-AF98-AE9EF6E8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140-1649-4B6D-8338-F8C394BD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07C5-7D23-4D8D-B6F4-F88FBEBC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D516C-3D7A-424A-935A-100F2055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DC2F-8322-44B3-9D0E-94378C95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15FB4-0616-4F45-9437-508426EA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EE63-82E2-49CC-87F2-93B604B7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EBEA4-D0E1-4952-9042-793482EF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F44CC-F6DD-4F7C-9AB6-8AFFA4B5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4AB9B-356F-48F0-8033-C40F0E7E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8C6B5-8611-4C60-9E02-F5788D5F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A6863-6323-43E9-B481-AF7DF9A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781-69B4-4769-A939-8C2522DA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8C691-76A7-41D3-B06C-65BB20A1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D9B1B-9D4E-440B-BFE6-0E0BA9F9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7D603-0BDB-4E36-8B0A-76D04781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CC8EF-1B9E-4B37-89DD-26C920DB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C0701-11AA-4446-8DF8-D6EDF7B5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BDAEC-855C-48AB-8F47-3FA66164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85020-FFE4-4CCB-8E99-9F1B3AF0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E8350-778C-4634-AB0F-A32A6816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9E5F3-6B18-4B59-89E3-67524387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3E0A7-B81E-4E85-861C-F6BBE732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31D-3F7C-4F5B-841D-F8A884AD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5B7F-3B26-487E-8D90-F7E1C77D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A1CF1-E9BA-4E03-9610-33ECCEB9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BEF5D-9160-4833-AC72-614ACA75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0F9D8-B5BC-41BB-BD19-79AC02C0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7D50A-8752-4DCA-9FD0-FD11BFA5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9C937-AC10-48E2-BE4D-9516F579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0141F-9D32-4DDE-AEF1-CF4B1D3F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3DDCF-2488-4046-BB4F-F4CAAC04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AB731-518E-419E-ADE9-416A13AB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C366D-7586-4264-8715-8BAD85FC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01C-0612-498E-BFB4-B28C94FA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CC3B0-4350-4A81-8081-D02CBE89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4756E-923E-4EBE-A3A9-71E849BE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F6DEF-1027-4AF9-8C7A-056A9089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91F86-E62B-46D1-BC44-2F0678FB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267E8-3DA1-402F-B81C-B7B784A1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E266B-72A8-48BD-BE93-EEBD613B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52DA4-6996-4F87-BEDE-3D126B6A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B06D5-556E-41EE-9C78-EE386559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9DDC9-CC1E-44B7-87DD-9E6D2A63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969DD-7F0F-439F-9FC3-33AE7599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B48E-F024-4D32-BFDB-7C4EC353B38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1713-CD35-4387-8625-15F9EB53DB2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9E6D-7C71-43B7-9B6A-56236D10C17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FB5F-A2A6-448E-9F54-77FA91EEBA0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5E3A-0DBF-4479-860A-F62067CFF50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F9A4-18CE-4C03-ADEB-1B9AE1DF4E3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4DBA-476B-4FCC-986D-EA0301F3BAE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1F12-763C-4E4A-8146-EC34EE489E7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F24B-1F0A-4136-B70F-0FD7F5DE567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B057-43F6-417B-9DF7-AB1EC69835F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2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르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도 잘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부모님께서도 안녕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hese days, nowadays, recen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지내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o get along (do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부모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떻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how; interrogative ad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떻게 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을 어떻게 만들었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어떻게 생겼습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	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께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; honorific expression of 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선생님께서 이야기하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할아버지께서 오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아버지께서 신문을 읽으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lso, too; a subject/object post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저도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좋습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도 압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음식도 맛있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Particle? Or Post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맑은 고딕"/>
              </a:rPr>
              <a:t>Make nouns/prenouns int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ject/object/possesive for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quivalent array ( ~ and ~, ~ or ~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djective or adverbe phr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맑은 고딕"/>
              </a:rPr>
              <a:t>Postpositions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씨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r. (Ms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르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e, exist, pre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친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rector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어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youn ger br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,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장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일러 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부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 교수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임지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윤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24T14:40:06Z</dcterms:modified>
  <cp:revision>70</cp:revision>
  <dc:subject/>
  <dc:title>KOREAN LANGUAGE</dc:title>
</cp:coreProperties>
</file>